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054B-60E3-447B-9D6B-7E3BFC381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AE0E-8B01-4849-B94D-5E4B00C0B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DFA3-9294-466E-8C13-C36A5A86B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E461-1BE3-44D4-911E-278BBA28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9A1C-8704-4278-BEEF-50B57D53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3791-765E-4313-BCA2-0C174AF94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9802-D415-4F34-9C4A-9F34B90C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DCCA-AC60-44E4-984C-079635B1B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B2DF-1106-4FB4-9729-F40863D2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71C9-5E6B-4AF8-81A4-ED3E5FDC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9474-985A-4E05-B7D3-E6F2ECFE2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E20F-E274-4F47-A601-A59F54A2D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D5EB-D857-44AD-B8EA-99E858823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4A3-3538-45D3-85EF-798246AAA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7D74-61B3-4B2A-9094-F49DC253D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8D25-8931-4907-A427-C3207322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3217-9CE4-4D90-93AC-27F4A551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ED0E-4A14-4735-96B0-54040AEF8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8300-CD05-44F7-8361-053468CC7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AD0-E4DD-42FC-8BF1-84E8C32B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440-49CC-4C29-8DC7-B5E07C7C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908-F394-4CF8-BC1A-664AEDE1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8A4-0E59-4CEA-AF73-F2E7E522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C8F-1206-407C-97D4-5A1563F4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275-16ED-44F7-9F2F-4016376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61B-F9C3-44C1-9AAF-C59CCF4F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CFD-66C0-4172-A08A-85118810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2E4-4F3A-4B99-ADB6-0C231A7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1A7-A4BF-432D-924F-73C8471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CC4-8119-4D2A-9D19-0704807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83D-C391-4383-8CA8-EC26AC4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1CA8-2831-496F-8B10-CC39C04A9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mpawards.com/2001/american_pie_two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mpawards.com/2009/ugly_truth_ver2_xlg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mpawards.com/2004/saw_ver3_xlg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mpawards.com/2005/amityville_horror_xlg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: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o develop understanding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f how to apply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DIA LANGUAGE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o your cours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419256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Untitled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iting: captions used to help narrate the story (“Four Teenagers”) and to show actors names, transitions, special effects (grenade, gun-shots to signify danger), 2 cameras used (special effects) – film within a film, longer clips at beginning, quicker as heist approached (suggest ac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rative: very brief introduction to the characters, resolution shown in trailer (unconventional and also unconventional because the audience still want to watch the film), narrative appears (largely) chron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79840" y="113328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nti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languag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e-en-sce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nematograph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ing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V:\Media\A2 work for display 2011\Mark Sison Front Cover.jpg"/>
          <p:cNvPicPr/>
          <p:nvPr/>
        </p:nvPicPr>
        <p:blipFill>
          <a:blip r:embed="rId1"/>
          <a:stretch/>
        </p:blipFill>
        <p:spPr>
          <a:xfrm>
            <a:off x="0" y="0"/>
            <a:ext cx="48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79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ly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e-en-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V:\Media\A2 work for display 2011\Mark Sison Front Cover.jpg"/>
          <p:cNvPicPr/>
          <p:nvPr/>
        </p:nvPicPr>
        <p:blipFill>
          <a:blip r:embed="rId1"/>
          <a:stretch/>
        </p:blipFill>
        <p:spPr>
          <a:xfrm>
            <a:off x="0" y="0"/>
            <a:ext cx="48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ainstor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76720" y="16002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as could you choose to analy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V:\Media\A2 work for display 2011\Mark Sison Poster.jpg"/>
          <p:cNvPicPr/>
          <p:nvPr/>
        </p:nvPicPr>
        <p:blipFill>
          <a:blip r:embed="rId1"/>
          <a:stretch/>
        </p:blipFill>
        <p:spPr>
          <a:xfrm>
            <a:off x="0" y="-11160"/>
            <a:ext cx="48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lysis of your cours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1 area of your partner’s poster to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a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rm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c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h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g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ig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ood l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nv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anquil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l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erva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ean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ophist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orm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leg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a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y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der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“media langu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ay that meaning is made using the conventions of the particular medium and type of media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broader category allowing candidates to write about elements of semiotics, genre, narrative, design, codes and conventions, spoken, written and visual language to name just a few exa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give one specific example, the use of continuity editing in a film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m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dea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hone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war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002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otation and De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ook at the film pos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onnotations do you get from the mise-en-scene on your poster? Consider Setting, Props, Costume, Colour and Character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Return to Main Page for American Pie 2 Pos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25280"/>
            <a:ext cx="454536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he Ugly Truth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It's a Boy Girl Thing Poster"/>
          <p:cNvPicPr/>
          <p:nvPr/>
        </p:nvPicPr>
        <p:blipFill>
          <a:blip r:embed="rId1"/>
          <a:stretch/>
        </p:blipFill>
        <p:spPr>
          <a:xfrm>
            <a:off x="2190600" y="61920"/>
            <a:ext cx="4762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The Exorcist Poster"/>
          <p:cNvPicPr/>
          <p:nvPr/>
        </p:nvPicPr>
        <p:blipFill>
          <a:blip r:embed="rId1"/>
          <a:stretch/>
        </p:blipFill>
        <p:spPr>
          <a:xfrm>
            <a:off x="2382840" y="-22320"/>
            <a:ext cx="4618080" cy="68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Saw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5760" y="0"/>
            <a:ext cx="474516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The Amityville Horror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79600" y="189000"/>
            <a:ext cx="4626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thusser and Interpe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thought the recognition (interpellation) of ideology turned individuals in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become bound to the ideology - they do not question it because it appear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what ideological values do your media texts con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chnical aspect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ainstorm key words relate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iotics – connotation, denotation, metonym, figurative, abstract, symbol, sign, metaphor, sign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re – predictable pleasures, representation, iconography, ideological themes (repertoire of elements), narrative, characterisation (stock type, archetype), conventions (how genre is defined), audience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rrative – repertoire of elements, equilibrium-disequilibrium-resolution (Todorov), characterisation, perspective (narrative voice), setting, exposition, cause an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– mise-en-scene, set design, creativity, conventions, denotation, masthead, target audience,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ten language – meaning, interpretation, provocative, pun, alliteration, metaphor, superlative (the best (“est”), imperative, exaggeration (hyperbole), simile, onomatopo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“media language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ng key media theories to your coursework, especi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m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moder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x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language to describe conventions you have used or not (or subverted), especially in relation to 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4920" y="1747440"/>
            <a:ext cx="8209080" cy="39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udy of sign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think of any examples of signs or symb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ould you define a sign or a sym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ngs that represent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002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otation and De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you actually see (e.g. a rose is a red 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something might stand for or represent (e.g. to give someone a red rose might suggest lo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ise-en-scene in your trailer, poster and magazine can connote complex ideas to the viewer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ok at the following colours – what connotations do they have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semiotic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ony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when one sign represents a greater whole. For example the statue of liberty is a sign that represents the US as a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mbolism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visual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chorag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ext that is used to assist in the reading of the image- anchors th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rthes and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d that imag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inforced cultural my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rough their co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x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dea in that this served to empower those in econo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defin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 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connotations)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red wine in French soci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rst order 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t is a dark, red bottle signifying it is a bottle of w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 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“Bourgeois” take this signifier and apply their own (sometimes incorrect) emphasis to it, making wine a new signifier of a healthy dr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what symbolism would your target audience “read” into the images in your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1:58:21Z</dcterms:created>
  <dc:creator>#</dc:creator>
  <dc:description/>
  <dc:language>en-US</dc:language>
  <cp:lastModifiedBy>Permaul, Pravin</cp:lastModifiedBy>
  <dcterms:modified xsi:type="dcterms:W3CDTF">2013-05-13T14:25:14Z</dcterms:modified>
  <cp:revision>22</cp:revision>
  <dc:subject/>
  <dc:title>Semiotics</dc:title>
</cp:coreProperties>
</file>